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C63-7B45-463C-B64D-D74B6F1A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C0D-DFBC-419E-AC04-5B8E9C04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32A-9C0F-4340-BE02-0BD4899F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C6C-0401-4511-BF1A-170A16A4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632-822A-4321-A0E8-D3A4DBB4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2F1-63E3-4893-8AD6-7E4E088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1FE-BF63-4CB4-9AFE-10A0968E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51D-FF04-4664-B313-D51F8ED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5F1-0EB1-4C44-9EE8-5F6F3B72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A58-8135-462A-9E8B-5E7AE7A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BC0-9D26-4D9A-8EB6-3828913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940-A739-4FBE-A551-D82D0D5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3BC-C5E5-4B42-BE52-6BCE3F73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La valeur des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54080"/>
            <a:ext cx="28958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u peux lire  et écrire des nombres décim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u peux additionner, soustraire, multiplier et même diviser des nombres décim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u peux résoudre des problèmes qui comportent des nombres décim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86600" y="5292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n 1924, la moyenne au bâton de Babe Ruth a été de 0,378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 tableau suivant peut t’aider à lire les nombres décimaux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47920" y="3733920"/>
          <a:ext cx="6553080" cy="239220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  <a:gridCol w="81900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 de m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a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a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xiè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è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è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x-milliè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15200" y="99072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Indique la valeur de position du chiffre souligné dans chacune des moyennes au bâton suivant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3429000"/>
          <a:ext cx="7162920" cy="3105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DiMagg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e M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k Aa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5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 R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48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Br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9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B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0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156996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Ecris les nombres décimaux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a-trois dix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b-trois cent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c-quatre-vingt-douze dix-mill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d-quarante et un cent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-quatre mill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f-treize mill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91320" y="4237200"/>
            <a:ext cx="281916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2:28:02Z</dcterms:created>
  <dc:creator>nbdoe</dc:creator>
  <dc:description/>
  <dc:language>en-US</dc:language>
  <cp:lastModifiedBy>nbdoe</cp:lastModifiedBy>
  <dcterms:modified xsi:type="dcterms:W3CDTF">2008-10-03T13:42:31Z</dcterms:modified>
  <cp:revision>3</cp:revision>
  <dc:subject/>
  <dc:title>Les nombres décimaux</dc:title>
</cp:coreProperties>
</file>